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9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B62-1B5D-4A47-90C1-9088F8E6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D23-0ED7-4CBD-9C4A-79A2F9FF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73F-DB38-4A04-8305-90C45D34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01F-49F3-4F14-869E-BC814DF7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536E-5A2A-4724-94A4-DA6DC96D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15CF-0481-49D6-8EA8-C9661756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78F8-CFBD-4939-80A7-027BE3D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C50-1E62-4981-8E17-A509B472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D83D-9EFF-4369-9487-083F32F7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EF13-19B7-47C1-95AA-B42CDF7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6F4C-D8A9-4147-A5A9-C8B7B7D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060-CA03-4077-A884-EB21ECD1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968-3F66-4CA4-8031-1C2AB8D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C99B-37FA-47DF-BA90-F3B0AF4E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0FF6-38A5-4222-8D68-C92672C4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7A2F-56FD-405F-B1B1-0FE555EB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F650-B568-42EB-8C2E-C737D10B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3A6-DD01-496F-8DF9-7FB6345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D2D-DF5E-4EE8-B0EA-1706382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F17-351F-485B-A702-211F8B9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4D9-28D5-4776-9234-E9268D7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49E-F404-4D1E-B69A-73965B8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409-CD52-4908-BD0E-A4A3A46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C3E-E077-4B36-8965-60EF463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F3B0-E68B-4F81-B74C-812A8B207078}" type="slidenum">
              <a: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29B8-ED58-494B-A127-3367D1ADA2F2}" type="slidenum">
              <a: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64824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371600" y="533520"/>
            <a:ext cx="69343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8aff"/>
                </a:solidFill>
                <a:latin typeface="American Typewriter Condensed"/>
              </a:rPr>
              <a:t>Estimation du likelihood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268aff"/>
              </a:solidFill>
              <a:latin typeface="American Typewriter Condensed"/>
              <a:ea typeface="American Typewriter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8aff"/>
                </a:solidFill>
                <a:latin typeface="American Typewriter Condensed"/>
              </a:rPr>
              <a:t>pour un arbr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268aff"/>
              </a:solidFill>
              <a:latin typeface="American Typewriter Condensed"/>
              <a:ea typeface="American Typewriter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8aff"/>
                </a:solidFill>
                <a:latin typeface="American Typewriter Condensed"/>
              </a:rPr>
              <a:t>phylogénétique fixé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268aff"/>
              </a:solidFill>
              <a:latin typeface="American Typewriter Condensed"/>
              <a:ea typeface="American Typewriter Condensed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3809880"/>
            <a:ext cx="327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alkduster"/>
                <a:ea typeface="ヒラギノ角ゴ Pro W3"/>
              </a:rPr>
              <a:t>Étudia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colo.DeCoi@unil.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risa.Espinoza@unil.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osip.Mikulic@unil.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5410080"/>
            <a:ext cx="399528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halkduster"/>
                <a:ea typeface="Osaka"/>
              </a:rPr>
              <a:t>Professeu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Osaka"/>
              </a:rPr>
              <a:t>Salamin Nico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halkduster"/>
                <a:ea typeface="Osaka"/>
              </a:rPr>
              <a:t>Assistant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Osaka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Osaka"/>
              </a:rPr>
              <a:t>Maryam Zah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129-877A-4712-8228-C257C6C6C0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763560" y="16002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s inputs de notre fonc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71600" y="2590920"/>
            <a:ext cx="1638000" cy="1828800"/>
            <a:chOff x="1371600" y="2590920"/>
            <a:chExt cx="1638000" cy="1828800"/>
          </a:xfrm>
        </p:grpSpPr>
        <p:sp>
          <p:nvSpPr>
            <p:cNvPr id="128" name=""/>
            <p:cNvSpPr/>
            <p:nvPr/>
          </p:nvSpPr>
          <p:spPr>
            <a:xfrm>
              <a:off x="1371600" y="3048120"/>
              <a:ext cx="16207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57440" y="3116160"/>
              <a:ext cx="11134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&gt; Q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bas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bases  T  C  A  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T -3  1  1 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C  1 -3  1 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A  1  1 -3 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G  1  1  1 -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960" y="259092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matrice 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644360" y="2590920"/>
            <a:ext cx="3143520" cy="1752480"/>
            <a:chOff x="4644360" y="2590920"/>
            <a:chExt cx="3143520" cy="1752480"/>
          </a:xfrm>
        </p:grpSpPr>
        <p:sp>
          <p:nvSpPr>
            <p:cNvPr id="132" name=""/>
            <p:cNvSpPr/>
            <p:nvPr/>
          </p:nvSpPr>
          <p:spPr>
            <a:xfrm>
              <a:off x="4800600" y="3124080"/>
              <a:ext cx="2285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8680" y="3228840"/>
              <a:ext cx="14090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&gt; seq[,1:5]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[,1] [,2] [,3] [,4] [,5]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1 "t"  "g"  "t"  "a"  "g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2 "t"  "t"  "g"  "g"  "c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3 "g"  "t"  "g"  "t"  "t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4 "t"  "g"  "t"  "a"  "g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5 "a"  "g"  "g"  "c"  "a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4360" y="2590920"/>
              <a:ext cx="31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s séquences à analys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18680" y="16002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aco"/>
              </a:rPr>
              <a:t>site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1400" spc="-1" strike="noStrike">
                <a:solidFill>
                  <a:srgbClr val="b27800"/>
                </a:solidFill>
                <a:latin typeface="Monaco"/>
              </a:rPr>
              <a:t>function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4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14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775-B183-4A29-85FA-695599F038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990720" y="228600"/>
            <a:ext cx="6247800" cy="6167880"/>
            <a:chOff x="990720" y="228600"/>
            <a:chExt cx="6247800" cy="6167880"/>
          </a:xfrm>
        </p:grpSpPr>
        <p:sp>
          <p:nvSpPr>
            <p:cNvPr id="137" name=""/>
            <p:cNvSpPr/>
            <p:nvPr/>
          </p:nvSpPr>
          <p:spPr>
            <a:xfrm>
              <a:off x="9907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1640" y="30492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71640" y="1916280"/>
            <a:ext cx="213336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7F2-511B-4AAB-92F4-6B0CEE1917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5443200" y="2514600"/>
            <a:ext cx="88020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&gt; xsite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ba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eq  T C A 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1 1 0 0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2 0 0 1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3 0 0 1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4 0 0 0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5 1 0 0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6320" y="2205000"/>
            <a:ext cx="2338560" cy="29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 &lt;- matrix(data=NA,nrow=5,ncol=4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fo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 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1:length(seq[1,])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fo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k 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1:length(seq[,1])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t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1,0,0,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els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c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0,1,0,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els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a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0,0,1,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els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g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0,0,0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}}}}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98D-670D-45CA-A08D-9E3E5997F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990720" y="228600"/>
            <a:ext cx="6247800" cy="6167880"/>
            <a:chOff x="990720" y="228600"/>
            <a:chExt cx="6247800" cy="6167880"/>
          </a:xfrm>
        </p:grpSpPr>
        <p:sp>
          <p:nvSpPr>
            <p:cNvPr id="145" name=""/>
            <p:cNvSpPr/>
            <p:nvPr/>
          </p:nvSpPr>
          <p:spPr>
            <a:xfrm>
              <a:off x="9907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1640" y="30492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71640" y="3213000"/>
            <a:ext cx="2133360" cy="208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74B-249D-4C6A-9D8D-D4D3832AA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1752480"/>
            <a:ext cx="3352680" cy="3809880"/>
            <a:chOff x="685800" y="1752480"/>
            <a:chExt cx="3352680" cy="3809880"/>
          </a:xfrm>
        </p:grpSpPr>
        <p:sp>
          <p:nvSpPr>
            <p:cNvPr id="150" name=""/>
            <p:cNvSpPr/>
            <p:nvPr/>
          </p:nvSpPr>
          <p:spPr>
            <a:xfrm>
              <a:off x="685800" y="1752480"/>
              <a:ext cx="335268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3120" y="1846080"/>
              <a:ext cx="259488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&lt;-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N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+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}}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&lt;-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N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+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}}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07680" y="1447920"/>
            <a:ext cx="26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xemple pour le premier noe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82600" y="5013360"/>
            <a:ext cx="2796120" cy="1502280"/>
            <a:chOff x="4782600" y="5013360"/>
            <a:chExt cx="2796120" cy="1502280"/>
          </a:xfrm>
        </p:grpSpPr>
        <p:sp>
          <p:nvSpPr>
            <p:cNvPr id="154" name=""/>
            <p:cNvSpPr/>
            <p:nvPr/>
          </p:nvSpPr>
          <p:spPr>
            <a:xfrm>
              <a:off x="4851360" y="5324400"/>
              <a:ext cx="27273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&gt; 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4 x 4 Matrix of class "dsyMatrix"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bas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bases         T         C         A         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T 0.5869967 0.1376678 0.1376678 0.137667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C 0.1376678 0.5869967 0.1376678 0.137667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A 0.1376678 0.1376678 0.5869967 0.137667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G 0.1376678 0.1376678 0.1376678 0.58699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600" y="5013360"/>
              <a:ext cx="185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emple avec t = 0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20080" y="685800"/>
            <a:ext cx="4265280" cy="3599280"/>
            <a:chOff x="4420080" y="685800"/>
            <a:chExt cx="4265280" cy="3599280"/>
          </a:xfrm>
        </p:grpSpPr>
        <p:grpSp>
          <p:nvGrpSpPr>
            <p:cNvPr id="157" name=""/>
            <p:cNvGrpSpPr/>
            <p:nvPr/>
          </p:nvGrpSpPr>
          <p:grpSpPr>
            <a:xfrm>
              <a:off x="5334120" y="762120"/>
              <a:ext cx="2438280" cy="3429000"/>
              <a:chOff x="5334120" y="762120"/>
              <a:chExt cx="2438280" cy="34290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5489640" y="1668240"/>
                <a:ext cx="466560" cy="219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6994080" y="1731600"/>
                <a:ext cx="569880" cy="21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5437080" y="1344600"/>
                <a:ext cx="727200" cy="258840"/>
                <a:chOff x="5437080" y="1344600"/>
                <a:chExt cx="727200" cy="2588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437080" y="1344600"/>
                  <a:ext cx="72720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9260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4848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956200" y="134460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11720" y="762120"/>
                <a:ext cx="727200" cy="258480"/>
                <a:chOff x="6111720" y="762120"/>
                <a:chExt cx="727200" cy="2584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111720" y="762120"/>
                  <a:ext cx="727200" cy="258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67240" y="762120"/>
                  <a:ext cx="108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23120" y="762120"/>
                  <a:ext cx="108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630840" y="762120"/>
                  <a:ext cx="72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38920" y="1344600"/>
                <a:ext cx="725400" cy="258840"/>
                <a:chOff x="6838920" y="1344600"/>
                <a:chExt cx="725400" cy="258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838920" y="1344600"/>
                  <a:ext cx="72540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99408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14960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356960" y="134460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045200" y="3932280"/>
                <a:ext cx="727200" cy="258840"/>
                <a:chOff x="7045200" y="3932280"/>
                <a:chExt cx="727200" cy="258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045200" y="3932280"/>
                  <a:ext cx="72720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20072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5660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564320" y="393228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334120" y="3932280"/>
                <a:ext cx="726840" cy="258840"/>
                <a:chOff x="5334120" y="3932280"/>
                <a:chExt cx="726840" cy="258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334120" y="3932280"/>
                  <a:ext cx="72684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48964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64552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53240" y="393228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6326640" y="1295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1520" y="243828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54720" y="237960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105880" y="685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d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20080" y="129528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2760" y="12193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22240" y="38862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X[1,j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27200" y="38862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X[2,j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15C-4C93-496A-9D4C-1BAF34680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990720" y="228600"/>
            <a:ext cx="6247800" cy="6167880"/>
            <a:chOff x="990720" y="228600"/>
            <a:chExt cx="6247800" cy="6167880"/>
          </a:xfrm>
        </p:grpSpPr>
        <p:sp>
          <p:nvSpPr>
            <p:cNvPr id="194" name=""/>
            <p:cNvSpPr/>
            <p:nvPr/>
          </p:nvSpPr>
          <p:spPr>
            <a:xfrm>
              <a:off x="9907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1640" y="30492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971640" y="907920"/>
            <a:ext cx="2438280" cy="152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060640"/>
            <a:ext cx="243828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516640"/>
            <a:ext cx="22860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2DA-D160-42C6-9EA4-EA887EDBA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1828800"/>
            <a:ext cx="4827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numeric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16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,]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1334880" y="297180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16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16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16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,]))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37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]&lt;- 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og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node4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p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return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14479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ecteur vide à remplir avec le likelihood pour chaque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819520"/>
            <a:ext cx="23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oop pour calculer le likelihood de chaque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4100400"/>
            <a:ext cx="22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éfinir la valeur qui entre dans le vecteur L et l’output de la fo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B2B-F9CB-4D08-B198-E1D7303B17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29718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1558800" y="376380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914400"/>
            <a:ext cx="8991720" cy="5394600"/>
          </a:xfrm>
          <a:prstGeom prst="rect">
            <a:avLst/>
          </a:prstGeom>
          <a:solidFill>
            <a:srgbClr val="90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ptimisation des paramètres de l’ar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assage du modèle JC69 à des modèles pour nucléotides plus comple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assage au Codon-based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chaîne de Markov décrit les substitutions d’un codon i en 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Ne considère pas les délétions/inse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mutations se passent indépendamment au 3 sites des cod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paramètres de Q: {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}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à 2 ou 3 positions du co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d’une transversion synony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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d’une transition synony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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 d’une transversion non-synony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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 d’une transition non-synonym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stimation du taux de substitutions  nonsynonyme/ synonyme 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2000" spc="-1" strike="noStrike">
                <a:solidFill>
                  <a:srgbClr val="ffffff"/>
                </a:solidFill>
                <a:latin typeface="Arial"/>
                <a:ea typeface="Arial"/>
              </a:rPr>
              <a:t>= dn/ds) est un important indicateur de la pression sélec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1800" spc="-1" strike="noStrike">
                <a:solidFill>
                  <a:srgbClr val="ffffff"/>
                </a:solidFill>
                <a:latin typeface="Arial"/>
                <a:ea typeface="Arial"/>
              </a:rPr>
              <a:t> = 1 -&gt; neutral mu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1800" spc="-1" strike="noStrike">
                <a:solidFill>
                  <a:srgbClr val="ffffff"/>
                </a:solidFill>
                <a:latin typeface="Arial"/>
                <a:ea typeface="Arial"/>
              </a:rPr>
              <a:t> &lt; 1 -&gt; purifyng se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1800" spc="-1" strike="noStrike">
                <a:solidFill>
                  <a:srgbClr val="ffffff"/>
                </a:solidFill>
                <a:latin typeface="Arial"/>
                <a:ea typeface="Arial"/>
              </a:rPr>
              <a:t> &gt; 1 -&gt; diversifyng positive se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4643280" y="5357880"/>
            <a:ext cx="4286520" cy="96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472-6A5F-4E5F-A3DE-5C0ED44534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4572000" cy="990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ibliographi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12720" cy="914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38080" y="2514600"/>
            <a:ext cx="60660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0200" y="16765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Yang Z.,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omputational Molecular Evolu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 Oxford university press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365760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asatoshi N./Sudhir K.,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olecular Evolution and Phylogenetic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 Oxford university press,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7432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aradis E.,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nalysis of Phylogenetics and Evolution with 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 Springer, 200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0666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480" y="4572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ic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105520"/>
            <a:ext cx="790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Goldman N./Yang Z., "A Codon-based Model of Nucleotide Substitution for Protein-coding DNA Sequences", The University of Chicago, 19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Yang &amp; all,  "Codon-Substitution Models for Heterogeneous Selection Pressure at Amino Acid Sites", Genetics nb 155, p. 431-449,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66B-1887-4F03-B4F9-5CD3673749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rci pour l’attention!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3000600" y="3352680"/>
            <a:ext cx="30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4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46D-01B5-4872-B48C-7596D04CB68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7696080" cy="50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2060640"/>
            <a:ext cx="754380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0a99"/>
                </a:solidFill>
                <a:latin typeface="Arial"/>
                <a:ea typeface="ヒラギノ角ゴ Pro W3"/>
              </a:rPr>
              <a:t>Likelihood (L) estimation for a simple tree of nucleotides 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0a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0a99"/>
                </a:solidFill>
                <a:latin typeface="Arial"/>
                <a:ea typeface="ヒラギノ角ゴ Pro W3"/>
              </a:rPr>
              <a:t>Understand the mathematicals processes under this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0a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0a99"/>
                </a:solidFill>
                <a:latin typeface="Arial"/>
                <a:ea typeface="ヒラギノ角ゴ Pro W3"/>
              </a:rPr>
              <a:t>Programming a general fonction in R to calculate L for a specific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0a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8000" y="55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8840" y="45720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Buts principau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346-AC0D-43C8-B7F5-A3317C9EE0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008840" cy="774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entury Gothic"/>
              </a:rPr>
              <a:t>Intérêt et pertinence du proje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3005280" cy="339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3200400"/>
            <a:ext cx="5562720" cy="29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 méthode du ML permet d’optimiser les paramètres  pour trouver le meilleur arbre phylogéné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étecter la pression sélective pour étudier le rôle d’un gène, les gènes importants sont très conserv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23880"/>
            <a:ext cx="84582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tilisation et interprétation des données phylogénét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tude et modélisation de l’évolution des espèces à partir des séquences trouv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193-E0D3-4B42-9C49-0EB3BBFCAB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505320" cy="77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éthodologi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6178680" y="5969160"/>
            <a:ext cx="2669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igure 1: représentation des substitution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ultiples à un site (Yang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omput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olecular evolution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, Oxford universtiy pres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2006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306520" cy="4533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639040" cy="4952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la distance entre 2 séquences s’estime par le nombre de nucléotides différents à chaque si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Problème: sous estimation des substitutions (substitutions multiples,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hidden substitution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Markov chain (fig. 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Continuous-time Markov proces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: est un modèle probabilistique qui décrit tous les possibles substitutions qui peuvent se passer à un site on se basant sur la situation actuelle (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markov property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) et on assumant que chaque site évolue indépendam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DA7-EBD8-41C9-99B4-1C5A4D0FE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10480" cy="5639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rkov chain model JC69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dèle simple pour nucléotides (T,C,A,G), bon modèle pour des petites distanc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={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fr-FR" sz="18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} est la matrice des taux de substitutio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ij est le taux instantané de substitution du nucléotide i au nucléotide 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somme de chaque colonne vaut 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 la même valeur pour chaque nucléotide (ex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1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ij∆t donne la probabilité de substitution dans un petit intervalle de temp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(t)={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fr-FR" sz="18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t)} est la matrice des probabilités de transitio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ij(t) est la probabilité qu’un nucléotide i devient j après un temps 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ette matrice considère et calcule tous les possible voies par lesquelles est passé le processus évolutif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ême dimensions de la matrice Q, la somme de chaque colonne vaut 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e calcule ainsi: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19520" y="5867280"/>
          <a:ext cx="1371600" cy="3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867280"/>
                    <a:ext cx="1371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92360" y="3213000"/>
          <a:ext cx="231120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3213000"/>
                    <a:ext cx="2311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00720" y="3213000"/>
          <a:ext cx="252720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00720" y="3213000"/>
                    <a:ext cx="2527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F59-E820-4145-AEE6-1FDD15434B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81880" cy="3505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kelihood method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thode pour calculer la distance entre 2 séquenc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topologie de l’arbre est fixé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 assume que chaque site évolue indépendamment des autr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the nesting rul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on somme les états du nœud ancestrale après avoir fait la somme pour chaque nœud descendant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tilise une matrice data de dimension s x 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76720" y="3733920"/>
          <a:ext cx="5029200" cy="95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733920"/>
                    <a:ext cx="502920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00400" y="4800600"/>
          <a:ext cx="281952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4800600"/>
                    <a:ext cx="28195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523880" y="3962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un nœu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0960" y="48769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un site de l’arb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080" y="57913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tous les sites de l’arb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0400" y="5486400"/>
          <a:ext cx="3429000" cy="8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5486400"/>
                    <a:ext cx="34290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C2B-F560-46BE-AE72-9026D5A2A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362320"/>
            <a:ext cx="853416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8360" cy="1371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opologie de l’arbre phylogénétiqu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The Newick tree forma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est une écriture utilisé pour représenter des arbr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43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Monaco"/>
                <a:ea typeface="Arial"/>
              </a:rPr>
              <a:t>tr &lt;- read.tree(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Monaco"/>
                <a:ea typeface="Arial"/>
              </a:rPr>
              <a:t>(((S1:0.2,S2:0.2)node1:0.1,S3:0.2)node3:0.1,(S4:0.2,S5:0.2)node2:0.1)node4:0.1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Monaco"/>
                <a:ea typeface="Arial"/>
              </a:rPr>
              <a:t>plot.phylo(tr,root.edge=TRUE,underscore=TRUE,no.margin=TRUE,font=2)nodelabels(c("node4","node3","node1","node2"),frame="c",bg="white"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411280" y="335772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0A4-3495-4764-8321-6DB9885EC0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219320" y="228600"/>
            <a:ext cx="6247800" cy="6167880"/>
            <a:chOff x="1219320" y="228600"/>
            <a:chExt cx="6247800" cy="6167880"/>
          </a:xfrm>
        </p:grpSpPr>
        <p:sp>
          <p:nvSpPr>
            <p:cNvPr id="120" name=""/>
            <p:cNvSpPr/>
            <p:nvPr/>
          </p:nvSpPr>
          <p:spPr>
            <a:xfrm>
              <a:off x="12193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240" y="30456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DCF-DE2D-4872-B949-7A8FBA74D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52280"/>
            <a:ext cx="3505320" cy="616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it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unctio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imnames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is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bases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T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C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A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G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,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bases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T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C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A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G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)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read.d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/Users/Deketek/Scuola/Mathematique/mc.paml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forma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sequential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as.characte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TRU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umeri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t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els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{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c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els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{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a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els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{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g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}}}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152280"/>
            <a:ext cx="2666880" cy="59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um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og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retur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280"/>
            <a:ext cx="1676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5DC-F943-4408-A096-D7EC9A211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8:02:23Z</dcterms:created>
  <dc:creator>Nina</dc:creator>
  <dc:description/>
  <dc:language>en-US</dc:language>
  <cp:lastModifiedBy>Biol</cp:lastModifiedBy>
  <dcterms:modified xsi:type="dcterms:W3CDTF">2010-05-26T14:03:06Z</dcterms:modified>
  <cp:revision>43</cp:revision>
  <dc:subject/>
  <dc:title>Presentazione di PowerPoint</dc:title>
</cp:coreProperties>
</file>